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5E7-91F9-4F47-9B75-3532AD4D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C65-8921-4B5D-A6B0-DB1005D2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47D-3753-456D-BA3A-A8CE1F27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644-0943-4B9A-92E6-1C6C1635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4A4-98E1-401C-A2CF-ABB4B5C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846-2E4A-4351-A73E-B3273A19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A70-F175-4B97-945F-61C9020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915-C4B4-4380-8036-D9AF012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8D-A756-4C98-90FE-4A9E401F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19D-A774-44EB-BC12-49C7694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7FB-3AE2-447B-B043-06361E19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B20-877A-460F-B6C2-3AB5D59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6D0C-17D4-44D1-ACAC-DA3028407DA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COMPORTAMIENTO DEL PTO EN EL MDO FINAL.jpg"/>
          <p:cNvPicPr/>
          <p:nvPr/>
        </p:nvPicPr>
        <p:blipFill>
          <a:blip r:embed="rId1"/>
          <a:stretch/>
        </p:blipFill>
        <p:spPr>
          <a:xfrm>
            <a:off x="214200" y="214200"/>
            <a:ext cx="871056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357120" y="500040"/>
            <a:ext cx="85726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1. SEGÚN LA CLASIFICACION DEL LOS PRODUCT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Que tipo de producto es el de su mi pyme y cuales son sus principales atributo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. SI SU PRODUCTO SE ENCONTRARA EN LA ETAPA DE CRECIMIENT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Que estrategia de promoción y distribución utilizarí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3. SEGUN LA PLANEACION ESTRATEGICA DE SU MI PY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uáles son los parámetros a seguir cuando el producto se encuentre en la etapa de hues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4. QUE ESTRATEGIA DE DISTRIBUCION UTILIZARA SU MI PYME EN LA ETAPA DE INTRODUCCION AL MERCADO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5. COMO SE PODRIA APLICAR EL COMERCIO ESPECIALIZADO EN EL SISTEMA DE DISTRIBUCION DE SU MI  PYM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6. SI SU PRODUCTO ESTUVIESE EXHIBIDO EN UNA SUPERFICIE ESPECIALIZADA CUAL DE LOS MODELOS UTILIZARIA Y PORQU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7. EN CUAL DE LAS ESTRATEGIAS DE LOS CANALES DE DISTRIBUCION HACE MAS ENFASIS SU MI PYME Y PORQU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8. EXPLIQUE BAJO QUE PARAMETROS SE DEFINIERON LAS POLITICAS DEL CANAL DE DISTRIBUCION EN SU MI PYM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1.bp.blogspot.com/_GZmHR5KzdHo/TAAD8E6ietI/AAAAAAAAAQY/jhaVTiAJCzw/s1600/644219pygwpogi9x%5B1%5D.gif"/>
          <p:cNvPicPr/>
          <p:nvPr/>
        </p:nvPicPr>
        <p:blipFill>
          <a:blip r:embed="rId1"/>
          <a:stretch/>
        </p:blipFill>
        <p:spPr>
          <a:xfrm>
            <a:off x="214200" y="142920"/>
            <a:ext cx="86439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marketing-turistico.iespana.es/index_clip_image002_0025.jpg"/>
          <p:cNvPicPr/>
          <p:nvPr/>
        </p:nvPicPr>
        <p:blipFill>
          <a:blip r:embed="rId1"/>
          <a:stretch/>
        </p:blipFill>
        <p:spPr>
          <a:xfrm>
            <a:off x="285840" y="428760"/>
            <a:ext cx="861372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4.bp.blogspot.com/_GsRn6vA8wgs/S9BYzV8k8UI/AAAAAAAAAA0/2Y7njXvCNXY/s1600/000690631%5B1%5D.png"/>
          <p:cNvPicPr/>
          <p:nvPr/>
        </p:nvPicPr>
        <p:blipFill>
          <a:blip r:embed="rId1"/>
          <a:stretch/>
        </p:blipFill>
        <p:spPr>
          <a:xfrm>
            <a:off x="149400" y="333360"/>
            <a:ext cx="8712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cobertura del mercado.jpg"/>
          <p:cNvPicPr/>
          <p:nvPr/>
        </p:nvPicPr>
        <p:blipFill>
          <a:blip r:embed="rId1"/>
          <a:stretch/>
        </p:blipFill>
        <p:spPr>
          <a:xfrm>
            <a:off x="214200" y="142920"/>
            <a:ext cx="872352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500040" y="703080"/>
            <a:ext cx="3357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XTENS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l fabricante busca poder vender sus productos en todos los establecimientos posibles de la misma rama comercial y en los que no son de la misma rama comer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786200" y="5020200"/>
            <a:ext cx="41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SELE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l fabricante selecciona algunos puntos de venta por el estilo del negocio, por lo que representa, las instalaciones, el barrio etc.; se busca empuje y promoción por parte del distribuidor ya que se le garantiza una oportunidad de negocio pues son pocos los elegi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2.bp.blogspot.com/_JUdbshYEF1s/SVmbzKiy6SI/AAAAAAAAEpU/dwhs17sQ8Zo/s400/Luegode28a%C3%B1os.jpg"/>
          <p:cNvPicPr/>
          <p:nvPr/>
        </p:nvPicPr>
        <p:blipFill>
          <a:blip r:embed="rId1"/>
          <a:stretch/>
        </p:blipFill>
        <p:spPr>
          <a:xfrm>
            <a:off x="270000" y="2214720"/>
            <a:ext cx="4159080" cy="451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condenast-profesional.es/uploads/images/thumbs/200939/harvey_nichols_7138_326x237.jpg"/>
          <p:cNvPicPr/>
          <p:nvPr/>
        </p:nvPicPr>
        <p:blipFill>
          <a:blip r:embed="rId2"/>
          <a:stretch/>
        </p:blipFill>
        <p:spPr>
          <a:xfrm>
            <a:off x="4786200" y="103320"/>
            <a:ext cx="4214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714240" y="600840"/>
            <a:ext cx="292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XCLUS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Por medio de un acuerdo contractual entre la empresa y el distribuidor, esté tiene la exclusividad de vender el producto en una zona geográfica determinada bajo ciertos requisitos, un ejemplo muy común son  las franquic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500800" y="521964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ENS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El fabricante busca todos los establecimientos de la misma rama comercial en los que se puede vender su producto y concentra sus esfuerzos y capital en el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img.blogdeblogs.com/tengounmac/uploads/2008/03/applelogo.jpg"/>
          <p:cNvPicPr/>
          <p:nvPr/>
        </p:nvPicPr>
        <p:blipFill>
          <a:blip r:embed="rId1"/>
          <a:stretch/>
        </p:blipFill>
        <p:spPr>
          <a:xfrm>
            <a:off x="214200" y="2143080"/>
            <a:ext cx="5214960" cy="435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2.bp.blogspot.com/_niEqieSGiNA/SAvEUczzeFI/AAAAAAAAAK0/RZUd_i8NW44/s320/Mapa+distribuci%C3%B3n.gif"/>
          <p:cNvPicPr/>
          <p:nvPr/>
        </p:nvPicPr>
        <p:blipFill>
          <a:blip r:embed="rId2"/>
          <a:stretch/>
        </p:blipFill>
        <p:spPr>
          <a:xfrm>
            <a:off x="4143240" y="347760"/>
            <a:ext cx="48214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COMERCIO ESPECIALIZADO FINAL.jpg"/>
          <p:cNvPicPr/>
          <p:nvPr/>
        </p:nvPicPr>
        <p:blipFill>
          <a:blip r:embed="rId1"/>
          <a:stretch/>
        </p:blipFill>
        <p:spPr>
          <a:xfrm>
            <a:off x="250920" y="291960"/>
            <a:ext cx="8596080" cy="64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ESTABLECIMIENTOS DE DESCUENTO FINAL.jpg"/>
          <p:cNvPicPr/>
          <p:nvPr/>
        </p:nvPicPr>
        <p:blipFill>
          <a:blip r:embed="rId1"/>
          <a:stretch/>
        </p:blipFill>
        <p:spPr>
          <a:xfrm>
            <a:off x="181080" y="101520"/>
            <a:ext cx="876924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POLITICAS Y ESTRATEGIAS DEL CANAL DE DISTRIBUCION FINAL.jpg"/>
          <p:cNvPicPr/>
          <p:nvPr/>
        </p:nvPicPr>
        <p:blipFill>
          <a:blip r:embed="rId1"/>
          <a:stretch/>
        </p:blipFill>
        <p:spPr>
          <a:xfrm>
            <a:off x="227160" y="163440"/>
            <a:ext cx="870264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3:14:27Z</dcterms:created>
  <dc:creator>Colossus User</dc:creator>
  <dc:description/>
  <dc:language>en-US</dc:language>
  <cp:lastModifiedBy>Colossus User</cp:lastModifiedBy>
  <dcterms:modified xsi:type="dcterms:W3CDTF">2010-09-24T03:03:43Z</dcterms:modified>
  <cp:revision>12</cp:revision>
  <dc:subject/>
  <dc:title>Diapositiva 1</dc:title>
</cp:coreProperties>
</file>